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091-9900-4DB9-BA68-9F13385A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EEA-4142-4B90-8B84-7FBCEB9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615-25A1-463D-A9E7-A0454E5C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DFD5-2496-434B-A416-D4B21C8E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BFF-766E-4151-AB61-C698E879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1E14-7831-42FE-91D6-1C5D6BC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6B64-1053-416D-83D6-C749BB1A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565-5286-4FD7-9DDE-37735D0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476D-FBE2-4643-96A5-FC551CEC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ED06-1D87-4F8A-91D4-59CC5AB3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A858-FF49-458D-92F0-6937F76B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E5D-5D88-4EC6-A0B0-F27464A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233E-5CB4-4E5C-9CDC-394537F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7D92-5BD1-4DE8-8B27-2BEFD30F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894-1010-41C1-A5DA-CAFA94A3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4A4-E30B-40D3-8DFD-FC48251A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8B02-4D4A-4977-B3C6-F2EFFA1E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AA3-4B2C-4B35-AB87-A17105AB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0D5-3D51-41B2-BFDC-D1BDDDAF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43B-713B-4A45-A9A5-F35575B8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DCB-B9EF-4195-88C6-08B3241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22C-5703-4B94-A122-FF3C8C3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385-2581-41ED-96EA-E708CFB4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1B2-DC92-4902-B065-5A569C1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2E37-CCD3-4F86-AE34-2F99565CD7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23B-BCAE-4D37-AD36-9BD6FAB4D7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b/Jean-Fran&#231;ois_Millet_%28II%29_01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7/Jean-Fran&#231;ois_Millet_Angelu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03640" y="2852640"/>
            <a:ext cx="231444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Script MT Bold"/>
              </a:rPr>
              <a:t>Millet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Campesinos sembrando pata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Campesinos sembrando patatas"/>
          <p:cNvPicPr/>
          <p:nvPr/>
        </p:nvPicPr>
        <p:blipFill>
          <a:blip r:embed="rId1"/>
          <a:stretch/>
        </p:blipFill>
        <p:spPr>
          <a:xfrm>
            <a:off x="2627280" y="2565360"/>
            <a:ext cx="44658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Las espigad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453384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cc"/>
                </a:solidFill>
                <a:latin typeface="Script MT Bold"/>
              </a:rPr>
              <a:t>El sembrad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Archivo:Jean-François Millet (II) 0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565360"/>
            <a:ext cx="45817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Script MT Bold"/>
              </a:rPr>
              <a:t>El ángel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Imagen:Jean-François Millet Angel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637000"/>
            <a:ext cx="52815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46:42Z</dcterms:created>
  <dc:creator>Pc 5</dc:creator>
  <dc:description/>
  <dc:language>en-US</dc:language>
  <cp:lastModifiedBy>Pc 5</cp:lastModifiedBy>
  <dcterms:modified xsi:type="dcterms:W3CDTF">2008-12-19T12:53:06Z</dcterms:modified>
  <cp:revision>1</cp:revision>
  <dc:subject/>
  <dc:title>Diapositiva 1</dc:title>
</cp:coreProperties>
</file>